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6.png" ContentType="image/png"/>
  <Override PartName="/ppt/media/image4.pct" ContentType="image/x-pict"/>
  <Override PartName="/ppt/media/image7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AFD8-1D11-463C-888E-D47CD85F0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ere founded about 30 years ago in a mall in the seattle subu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ve grown to a full time staff of about 250 peop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ling array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icated and ongoing – point of slide is to show a concrete example of a few of the principles that we cov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row – different versions of the genome assem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’ve taken information from several genome annotations and transferred them to a new version of a gen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– designed probes to early versions of a genome – remapped them to newer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row – comparing result sets from several different gen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ll systems described a couple of sides ago does not exist, but it components of it does, and we have used those components in this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pe is that the full system as described will facilitate and simplify projects like the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im of SSGCID is to determine the 3d structure of proteins from a variety of human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pathogens are from a list compiled by the National institute of allergy and infectious disease, known as the priority pathogens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st contains a set of organisms that are emerging or re-emerging threats to human heal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be emerging due to drug resistance, changes in land use, human demographic factors, bioterro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5 year multi center collaborative project between SBRI, the UW, the Pacific Northwest National Laboratory in Richland and Decode BioStructures, a local biotech comp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using a pipelining appr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ll talk about the Bioinformatic screening, as that is where I spend most of my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creening out genes that have physical properties that make them unlikely to have a solvable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creening out genes that have no significant similarity to existing drug targ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creening out genes that are too similar to an existing solve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dundancy scre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1CCC-05B2-4E7B-A12C-8EB43FE52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2D57-17EC-44E6-9E11-BBA0FF5C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4AEE-A3BB-4CC2-ACC8-37118B780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C0F8-45E6-4F38-B74B-579ED64F0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BCDD-92D5-4EC3-BD6A-83EA7A7B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0C46-C2FB-41CA-8784-A9CEBC3C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F22A-7111-4C16-A32D-7FEB1DC7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282B-18FC-43D7-B6A5-ABA5041D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D706-91F0-4AE0-9026-547CA37B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7D3B-8C6F-413D-A5E4-90EBBEC6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EC79-4849-4A80-B6CB-8D068341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7046-E21D-4A05-B95D-355712FE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CD71-5F95-47D3-8337-F24413302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2009 GMOD Meet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hileep Siv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3200" spc="-1" strike="noStrike">
                <a:solidFill>
                  <a:srgbClr val="008040"/>
                </a:solidFill>
                <a:latin typeface="Arial"/>
              </a:rPr>
              <a:t>Isabelle P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ttle Biomedical Research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36640" cy="1752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822320" y="0"/>
            <a:ext cx="1177920" cy="1752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086280" y="0"/>
            <a:ext cx="2514600" cy="1760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686560" y="0"/>
            <a:ext cx="1314360" cy="1752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7086600" y="0"/>
            <a:ext cx="205740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do + GUS: why do we need bot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on with I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tation tools: Manatee (apollo), Erga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data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on with UPe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front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al data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5200" y="3000240"/>
            <a:ext cx="1251000" cy="175284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46080" y="365760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57240" y="990720"/>
            <a:ext cx="243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o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ructural geno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"/>
          <p:cNvCxnSpPr>
            <a:stCxn id="169" idx="1"/>
            <a:endCxn id="169" idx="4"/>
          </p:cNvCxnSpPr>
          <p:nvPr/>
        </p:nvCxnSpPr>
        <p:spPr>
          <a:xfrm flipH="1" rot="16200000">
            <a:off x="3134880" y="3124800"/>
            <a:ext cx="877320" cy="626040"/>
          </a:xfrm>
          <a:prstGeom prst="curvedConnector5">
            <a:avLst>
              <a:gd name="adj1" fmla="val -26067"/>
              <a:gd name="adj2" fmla="val 68239"/>
              <a:gd name="adj3" fmla="val -26067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73" name=""/>
          <p:cNvSpPr/>
          <p:nvPr/>
        </p:nvSpPr>
        <p:spPr>
          <a:xfrm>
            <a:off x="3505320" y="2133720"/>
            <a:ext cx="227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al an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78000" y="2238480"/>
            <a:ext cx="609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9146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42280" y="4724280"/>
            <a:ext cx="207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ga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pip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0680" y="423720"/>
            <a:ext cx="39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data management at SB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40520" y="2666880"/>
            <a:ext cx="1251000" cy="175284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02600" y="335268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934320" y="4572000"/>
            <a:ext cx="3045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83480" y="541008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S WD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057400" y="45716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802480" y="5378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do2GUS: Lost in 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ormalized sch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ymorph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sql (IGS Cha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ized sch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cla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gres port from Or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600200" y="2457360"/>
            <a:ext cx="2324160" cy="743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latin typeface="Arial Black"/>
              </a:rPr>
              <a:t>performance issu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latin typeface="Arial Black"/>
              <a:ea typeface="Arial Blac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448240" y="2514600"/>
            <a:ext cx="2324160" cy="743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c0c0"/>
                </a:solidFill>
                <a:latin typeface="Arial Black"/>
              </a:rPr>
              <a:t>performance issu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c0c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king the best of two worl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logical data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utu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L-free data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custom wrappers over raw SQ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Ms: Chado Hibernate, Active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fied object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BMS-free data m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GUS predefined query + set comb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mart + Gala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DF + triple store + sparql (object store + Luce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ttle Biomedical Research Institute (SBR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ed in 19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250 full-time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infectious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 La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ties to the University of Washing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informatics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we first came to use Ch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3200400"/>
            <a:ext cx="1295640" cy="3016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mjF Probe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4280" y="3200400"/>
            <a:ext cx="1295640" cy="3016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inJ Probe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62320" y="1981080"/>
            <a:ext cx="1160280" cy="301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mjF V5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19720" y="1981080"/>
            <a:ext cx="1160280" cy="301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J V2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695920" y="1981080"/>
            <a:ext cx="1160640" cy="301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J V3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086600" y="1981080"/>
            <a:ext cx="1160640" cy="30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J V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23920" y="1981080"/>
            <a:ext cx="1160640" cy="301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mjF V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62040" y="4343400"/>
            <a:ext cx="1295640" cy="3016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4343400"/>
            <a:ext cx="1295640" cy="3016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14840" y="4343400"/>
            <a:ext cx="1295280" cy="3016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64" idx="2"/>
            <a:endCxn id="58" idx="0"/>
          </p:cNvCxnSpPr>
          <p:nvPr/>
        </p:nvCxnSpPr>
        <p:spPr>
          <a:xfrm flipH="1" rot="16200000">
            <a:off x="1478520" y="2507760"/>
            <a:ext cx="918360" cy="467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58" idx="2"/>
            <a:endCxn id="65" idx="1"/>
          </p:cNvCxnSpPr>
          <p:nvPr/>
        </p:nvCxnSpPr>
        <p:spPr>
          <a:xfrm rot="5400000">
            <a:off x="1370160" y="3693240"/>
            <a:ext cx="992880" cy="610560"/>
          </a:xfrm>
          <a:prstGeom prst="curvedConnector5">
            <a:avLst>
              <a:gd name="adj1" fmla="val 42364"/>
              <a:gd name="adj2" fmla="val 68731"/>
              <a:gd name="adj3" fmla="val 423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1562040" y="5638680"/>
            <a:ext cx="1295640" cy="3016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ult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33920" y="5638680"/>
            <a:ext cx="1295280" cy="3016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ult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67280" y="5638680"/>
            <a:ext cx="1295640" cy="3016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ult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0" idx="2"/>
            <a:endCxn id="65" idx="3"/>
          </p:cNvCxnSpPr>
          <p:nvPr/>
        </p:nvCxnSpPr>
        <p:spPr>
          <a:xfrm rot="5400000">
            <a:off x="1794240" y="3345480"/>
            <a:ext cx="2212200" cy="86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1" idx="2"/>
            <a:endCxn id="59" idx="0"/>
          </p:cNvCxnSpPr>
          <p:nvPr/>
        </p:nvCxnSpPr>
        <p:spPr>
          <a:xfrm flipH="1" rot="16200000">
            <a:off x="4727520" y="2555280"/>
            <a:ext cx="918360" cy="372240"/>
          </a:xfrm>
          <a:prstGeom prst="curvedConnector5">
            <a:avLst>
              <a:gd name="adj1" fmla="val 50000"/>
              <a:gd name="adj2" fmla="val 4995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59" idx="2"/>
            <a:endCxn id="66" idx="1"/>
          </p:cNvCxnSpPr>
          <p:nvPr/>
        </p:nvCxnSpPr>
        <p:spPr>
          <a:xfrm flipH="1" rot="16200000">
            <a:off x="5122800" y="3750480"/>
            <a:ext cx="992880" cy="495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3" idx="2"/>
            <a:endCxn id="66" idx="3"/>
          </p:cNvCxnSpPr>
          <p:nvPr/>
        </p:nvCxnSpPr>
        <p:spPr>
          <a:xfrm rot="5400000">
            <a:off x="6316200" y="3143160"/>
            <a:ext cx="2197800" cy="505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0" idx="2"/>
            <a:endCxn id="67" idx="1"/>
          </p:cNvCxnSpPr>
          <p:nvPr/>
        </p:nvCxnSpPr>
        <p:spPr>
          <a:xfrm flipH="1" rot="16200000">
            <a:off x="2222280" y="3002400"/>
            <a:ext cx="2212200" cy="772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59" idx="2"/>
            <a:endCxn id="67" idx="3"/>
          </p:cNvCxnSpPr>
          <p:nvPr/>
        </p:nvCxnSpPr>
        <p:spPr>
          <a:xfrm rot="5400000">
            <a:off x="4694760" y="3817080"/>
            <a:ext cx="992880" cy="36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2" idx="2"/>
          </p:cNvCxnSpPr>
          <p:nvPr/>
        </p:nvCxnSpPr>
        <p:spPr>
          <a:xfrm flipH="1" rot="16200000">
            <a:off x="4361400" y="3787920"/>
            <a:ext cx="2520" cy="4306320"/>
          </a:xfrm>
          <a:prstGeom prst="curvedConnector5">
            <a:avLst>
              <a:gd name="adj1" fmla="val 34800000"/>
              <a:gd name="adj2" fmla="val 49995"/>
              <a:gd name="adj3" fmla="val 348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70" idx="3"/>
            <a:endCxn id="71" idx="1"/>
          </p:cNvCxnSpPr>
          <p:nvPr/>
        </p:nvCxnSpPr>
        <p:spPr>
          <a:xfrm>
            <a:off x="2857680" y="5789160"/>
            <a:ext cx="87696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71" idx="3"/>
            <a:endCxn id="72" idx="1"/>
          </p:cNvCxnSpPr>
          <p:nvPr/>
        </p:nvCxnSpPr>
        <p:spPr>
          <a:xfrm>
            <a:off x="5029200" y="5789160"/>
            <a:ext cx="83880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60" idx="0"/>
            <a:endCxn id="63" idx="0"/>
          </p:cNvCxnSpPr>
          <p:nvPr/>
        </p:nvCxnSpPr>
        <p:spPr>
          <a:xfrm flipH="1" flipV="1" rot="5400000">
            <a:off x="5298120" y="-388800"/>
            <a:ext cx="14760" cy="4725000"/>
          </a:xfrm>
          <a:prstGeom prst="curvedConnector5">
            <a:avLst>
              <a:gd name="adj1" fmla="val 1600000"/>
              <a:gd name="adj2" fmla="val 50000"/>
              <a:gd name="adj3" fmla="val 16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61" idx="0"/>
            <a:endCxn id="63" idx="0"/>
          </p:cNvCxnSpPr>
          <p:nvPr/>
        </p:nvCxnSpPr>
        <p:spPr>
          <a:xfrm flipH="1" flipV="1" rot="5400000">
            <a:off x="6327000" y="640080"/>
            <a:ext cx="14760" cy="2667240"/>
          </a:xfrm>
          <a:prstGeom prst="curvedConnector5">
            <a:avLst>
              <a:gd name="adj1" fmla="val 1600000"/>
              <a:gd name="adj2" fmla="val 50000"/>
              <a:gd name="adj3" fmla="val 16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62" idx="0"/>
            <a:endCxn id="63" idx="0"/>
          </p:cNvCxnSpPr>
          <p:nvPr/>
        </p:nvCxnSpPr>
        <p:spPr>
          <a:xfrm flipH="1" flipV="1" rot="5400000">
            <a:off x="6964560" y="1278360"/>
            <a:ext cx="14760" cy="1391040"/>
          </a:xfrm>
          <a:prstGeom prst="curvedConnector5">
            <a:avLst>
              <a:gd name="adj1" fmla="val 1600000"/>
              <a:gd name="adj2" fmla="val 49987"/>
              <a:gd name="adj3" fmla="val 16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"/>
          <p:cNvSpPr/>
          <p:nvPr/>
        </p:nvSpPr>
        <p:spPr>
          <a:xfrm>
            <a:off x="2057400" y="502920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67080" y="502920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510552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64" idx="0"/>
            <a:endCxn id="60" idx="0"/>
          </p:cNvCxnSpPr>
          <p:nvPr/>
        </p:nvCxnSpPr>
        <p:spPr>
          <a:xfrm flipH="1" rot="16200000">
            <a:off x="2323080" y="1361520"/>
            <a:ext cx="2520" cy="1239120"/>
          </a:xfrm>
          <a:prstGeom prst="curvedConnector5">
            <a:avLst>
              <a:gd name="adj1" fmla="val -14400000"/>
              <a:gd name="adj2" fmla="val 49985"/>
              <a:gd name="adj3" fmla="val -14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61" idx="2"/>
            <a:endCxn id="62" idx="2"/>
          </p:cNvCxnSpPr>
          <p:nvPr/>
        </p:nvCxnSpPr>
        <p:spPr>
          <a:xfrm flipH="1" rot="16200000">
            <a:off x="5636520" y="1645200"/>
            <a:ext cx="2520" cy="1276560"/>
          </a:xfrm>
          <a:prstGeom prst="curvedConnector5">
            <a:avLst>
              <a:gd name="adj1" fmla="val 14400000"/>
              <a:gd name="adj2" fmla="val 49985"/>
              <a:gd name="adj3" fmla="val 14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array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1600200"/>
            <a:ext cx="1143000" cy="1905120"/>
          </a:xfrm>
          <a:prstGeom prst="ca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1600200"/>
            <a:ext cx="1676520" cy="15238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mbl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2362320"/>
            <a:ext cx="2362320" cy="457200"/>
          </a:xfrm>
          <a:prstGeom prst="rightArrow">
            <a:avLst>
              <a:gd name="adj1" fmla="val 50000"/>
              <a:gd name="adj2" fmla="val 129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12040" y="19051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90920" y="4191120"/>
            <a:ext cx="3733560" cy="23619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alysis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ature-level aggre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>
            <a:stCxn id="91" idx="3"/>
            <a:endCxn id="95" idx="3"/>
          </p:cNvCxnSpPr>
          <p:nvPr/>
        </p:nvCxnSpPr>
        <p:spPr>
          <a:xfrm rot="5400000">
            <a:off x="5752080" y="4076640"/>
            <a:ext cx="1867680" cy="7246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Case: SSGC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4479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1143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attl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ructural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nomic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n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fectiou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638680" y="2057400"/>
            <a:ext cx="3113280" cy="3918600"/>
            <a:chOff x="5638680" y="2057400"/>
            <a:chExt cx="3113280" cy="3918600"/>
          </a:xfrm>
        </p:grpSpPr>
        <p:sp>
          <p:nvSpPr>
            <p:cNvPr id="101" name=""/>
            <p:cNvSpPr/>
            <p:nvPr/>
          </p:nvSpPr>
          <p:spPr>
            <a:xfrm>
              <a:off x="6327720" y="5638680"/>
              <a:ext cx="170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Vaccine Targets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5638680" y="2057400"/>
              <a:ext cx="3113280" cy="3272760"/>
              <a:chOff x="5638680" y="2057400"/>
              <a:chExt cx="3113280" cy="3272760"/>
            </a:xfrm>
          </p:grpSpPr>
          <p:sp>
            <p:nvSpPr>
              <p:cNvPr id="103" name=""/>
              <p:cNvSpPr/>
              <p:nvPr/>
            </p:nvSpPr>
            <p:spPr>
              <a:xfrm>
                <a:off x="5638680" y="2218320"/>
                <a:ext cx="1234440" cy="305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873120" y="5169240"/>
                <a:ext cx="644040" cy="160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7517160" y="2218320"/>
                <a:ext cx="1234440" cy="305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38680" y="2057400"/>
                <a:ext cx="3113280" cy="26784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873120" y="5061600"/>
                <a:ext cx="644040" cy="21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5813640" y="3295800"/>
              <a:ext cx="267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ne Cloning &amp; Expres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92640" y="4117320"/>
              <a:ext cx="214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tein Crystall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98680" y="4941360"/>
              <a:ext cx="232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ructure Determin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997600" y="2472840"/>
              <a:ext cx="232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Bioinformatic Scree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33520" y="1752480"/>
            <a:ext cx="4419360" cy="4191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ject A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23623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895480"/>
            <a:ext cx="3810240" cy="24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3D Protein Structu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IAID Emerging and re-emerging priority pathoge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tructures will serve as a starting point for drug develop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ulti-cent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SGC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371600" y="2743200"/>
            <a:ext cx="1477800" cy="1815480"/>
            <a:chOff x="1371600" y="2743200"/>
            <a:chExt cx="1477800" cy="1815480"/>
          </a:xfrm>
        </p:grpSpPr>
        <p:sp>
          <p:nvSpPr>
            <p:cNvPr id="117" name=""/>
            <p:cNvSpPr/>
            <p:nvPr/>
          </p:nvSpPr>
          <p:spPr>
            <a:xfrm>
              <a:off x="1635120" y="4343040"/>
              <a:ext cx="948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0000"/>
                  </a:solidFill>
                  <a:latin typeface="Arial"/>
                </a:rPr>
                <a:t>Vaccine Targets!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371600" y="2743200"/>
              <a:ext cx="1477800" cy="1553760"/>
              <a:chOff x="1371600" y="2743200"/>
              <a:chExt cx="1477800" cy="1553760"/>
            </a:xfrm>
          </p:grpSpPr>
          <p:sp>
            <p:nvSpPr>
              <p:cNvPr id="119" name=""/>
              <p:cNvSpPr/>
              <p:nvPr/>
            </p:nvSpPr>
            <p:spPr>
              <a:xfrm>
                <a:off x="1371600" y="2819520"/>
                <a:ext cx="586080" cy="145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957680" y="4220640"/>
                <a:ext cx="30564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2262960" y="2819520"/>
                <a:ext cx="585720" cy="145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371600" y="2743200"/>
                <a:ext cx="1477800" cy="127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957680" y="4169520"/>
                <a:ext cx="305640" cy="101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1392480" y="3230280"/>
              <a:ext cx="1434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ene Cloning &amp; Express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25680" y="3620880"/>
              <a:ext cx="1169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tein Crystalliz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80680" y="4012920"/>
              <a:ext cx="1258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ucture Determin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79960" y="2839680"/>
              <a:ext cx="1259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ioinformatic Screen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105520" y="1219320"/>
            <a:ext cx="2743200" cy="2508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876920" y="4419720"/>
            <a:ext cx="3200400" cy="19476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 flipV="1">
            <a:off x="2895480" y="2438280"/>
            <a:ext cx="1981440" cy="457200"/>
          </a:xfrm>
          <a:prstGeom prst="line">
            <a:avLst/>
          </a:prstGeom>
          <a:ln w="28440">
            <a:solidFill>
              <a:srgbClr val="ff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3200400"/>
            <a:ext cx="304560" cy="1295280"/>
          </a:xfrm>
          <a:custGeom>
            <a:avLst/>
            <a:gdLst>
              <a:gd name="textAreaLeft" fmla="*/ 0 w 304560"/>
              <a:gd name="textAreaRight" fmla="*/ 109800 w 3045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344"/>
                </a:lnTo>
                <a:cubicBezTo>
                  <a:pt x="10800" y="10244"/>
                  <a:pt x="16200" y="11144"/>
                  <a:pt x="21600" y="11144"/>
                </a:cubicBezTo>
                <a:cubicBezTo>
                  <a:pt x="16200" y="11144"/>
                  <a:pt x="10800" y="12044"/>
                  <a:pt x="10800" y="1294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3886200"/>
            <a:ext cx="1676160" cy="1295280"/>
          </a:xfrm>
          <a:prstGeom prst="line">
            <a:avLst/>
          </a:prstGeom>
          <a:ln w="28440">
            <a:solidFill>
              <a:srgbClr val="ff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SGC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343400" y="1676520"/>
            <a:ext cx="1905120" cy="327636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2286000"/>
            <a:ext cx="1905120" cy="1981080"/>
          </a:xfrm>
          <a:custGeom>
            <a:avLst/>
            <a:gdLst>
              <a:gd name="textAreaLeft" fmla="*/ 92880 w 1905120"/>
              <a:gd name="textAreaRight" fmla="*/ 1812240 w 1905120"/>
              <a:gd name="textAreaTop" fmla="*/ 92880 h 1981080"/>
              <a:gd name="textAreaBottom" fmla="*/ 1888200 h 1981080"/>
            </a:gdLst>
            <a:ahLst/>
            <a:rect l="textAreaLeft" t="textAreaTop" r="textAreaRight" b="textAreaBottom"/>
            <a:pathLst>
              <a:path w="21600" h="22461">
                <a:moveTo>
                  <a:pt x="3600" y="0"/>
                </a:moveTo>
                <a:arcTo wR="3600" hR="3600" stAng="16200000" swAng="-5400000"/>
                <a:lnTo>
                  <a:pt x="0" y="18861"/>
                </a:lnTo>
                <a:arcTo wR="3600" hR="3600" stAng="10800000" swAng="-5400000"/>
                <a:lnTo>
                  <a:pt x="18000" y="224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5791320"/>
            <a:ext cx="1828800" cy="5331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38680" y="5791320"/>
            <a:ext cx="1828800" cy="5331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6" idx="0"/>
            <a:endCxn id="134" idx="3"/>
          </p:cNvCxnSpPr>
          <p:nvPr/>
        </p:nvCxnSpPr>
        <p:spPr>
          <a:xfrm flipV="1">
            <a:off x="3962520" y="4952160"/>
            <a:ext cx="1334160" cy="83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9" name=""/>
          <p:cNvCxnSpPr>
            <a:stCxn id="134" idx="3"/>
            <a:endCxn id="137" idx="0"/>
          </p:cNvCxnSpPr>
          <p:nvPr/>
        </p:nvCxnSpPr>
        <p:spPr>
          <a:xfrm>
            <a:off x="5295960" y="4952520"/>
            <a:ext cx="1257840" cy="83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7010280" y="2743200"/>
            <a:ext cx="1828800" cy="914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5" idx="3"/>
            <a:endCxn id="134" idx="2"/>
          </p:cNvCxnSpPr>
          <p:nvPr/>
        </p:nvCxnSpPr>
        <p:spPr>
          <a:xfrm>
            <a:off x="2133720" y="3276720"/>
            <a:ext cx="22104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2592720" y="274320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41160" y="3429000"/>
            <a:ext cx="18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lk 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hat have come up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447920"/>
            <a:ext cx="350532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xity of querying BLAS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5410080"/>
            <a:ext cx="3504960" cy="8384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289548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xity of querying microarra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1523880"/>
            <a:ext cx="2514600" cy="1981440"/>
          </a:xfrm>
          <a:prstGeom prst="roundRect">
            <a:avLst>
              <a:gd name="adj" fmla="val 16667"/>
            </a:avLst>
          </a:prstGeom>
          <a:solidFill>
            <a:srgbClr val="008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erialized 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72200" y="5410080"/>
            <a:ext cx="2438280" cy="914400"/>
          </a:xfrm>
          <a:prstGeom prst="roundRect">
            <a:avLst>
              <a:gd name="adj" fmla="val 16667"/>
            </a:avLst>
          </a:prstGeom>
          <a:solidFill>
            <a:srgbClr val="008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14800" y="1828800"/>
            <a:ext cx="1600200" cy="304920"/>
          </a:xfrm>
          <a:prstGeom prst="rightArrow">
            <a:avLst>
              <a:gd name="adj1" fmla="val 50000"/>
              <a:gd name="adj2" fmla="val 13119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14800" y="3124080"/>
            <a:ext cx="1600200" cy="304920"/>
          </a:xfrm>
          <a:prstGeom prst="rightArrow">
            <a:avLst>
              <a:gd name="adj1" fmla="val 50000"/>
              <a:gd name="adj2" fmla="val 13119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4114800"/>
            <a:ext cx="3429000" cy="7621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ing of Gen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14800" y="5638680"/>
            <a:ext cx="1752480" cy="304920"/>
          </a:xfrm>
          <a:prstGeom prst="rightArrow">
            <a:avLst>
              <a:gd name="adj1" fmla="val 50000"/>
              <a:gd name="adj2" fmla="val 143684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4038480"/>
            <a:ext cx="2438280" cy="914400"/>
          </a:xfrm>
          <a:prstGeom prst="roundRect">
            <a:avLst>
              <a:gd name="adj" fmla="val 16667"/>
            </a:avLst>
          </a:prstGeom>
          <a:solidFill>
            <a:srgbClr val="0080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Xre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4343400"/>
            <a:ext cx="1600200" cy="304920"/>
          </a:xfrm>
          <a:prstGeom prst="rightArrow">
            <a:avLst>
              <a:gd name="adj1" fmla="val 50000"/>
              <a:gd name="adj2" fmla="val 13119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635200" y="3000240"/>
            <a:ext cx="1676520" cy="175284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37720" y="368604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e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57240" y="990720"/>
            <a:ext cx="243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o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ructural geno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02240" y="368604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"/>
          <p:cNvCxnSpPr>
            <a:stCxn id="156" idx="1"/>
            <a:endCxn id="156" idx="4"/>
          </p:cNvCxnSpPr>
          <p:nvPr/>
        </p:nvCxnSpPr>
        <p:spPr>
          <a:xfrm flipH="1" rot="16200000">
            <a:off x="3453840" y="3018240"/>
            <a:ext cx="877320" cy="839160"/>
          </a:xfrm>
          <a:prstGeom prst="curvedConnector5">
            <a:avLst>
              <a:gd name="adj1" fmla="val -44170"/>
              <a:gd name="adj2" fmla="val 78025"/>
              <a:gd name="adj3" fmla="val -4417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61" name=""/>
          <p:cNvSpPr/>
          <p:nvPr/>
        </p:nvSpPr>
        <p:spPr>
          <a:xfrm>
            <a:off x="4006800" y="2209680"/>
            <a:ext cx="10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6" idx="3"/>
            <a:endCxn id="157" idx="1"/>
          </p:cNvCxnSpPr>
          <p:nvPr/>
        </p:nvCxnSpPr>
        <p:spPr>
          <a:xfrm flipV="1" rot="16200000">
            <a:off x="2634480" y="3913920"/>
            <a:ext cx="839160" cy="838800"/>
          </a:xfrm>
          <a:prstGeom prst="curvedConnector5">
            <a:avLst>
              <a:gd name="adj1" fmla="val -47510"/>
              <a:gd name="adj2" fmla="val 75654"/>
              <a:gd name="adj3" fmla="val -4751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2178000" y="2238480"/>
            <a:ext cx="609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97520" y="39146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25120" y="4908600"/>
            <a:ext cx="14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p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720680" y="423720"/>
            <a:ext cx="39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data management at SB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22:05:08Z</dcterms:created>
  <dc:creator>D S</dc:creator>
  <dc:description/>
  <dc:language>en-US</dc:language>
  <cp:lastModifiedBy>D S</cp:lastModifiedBy>
  <dcterms:modified xsi:type="dcterms:W3CDTF">2009-01-16T22:24:17Z</dcterms:modified>
  <cp:revision>11</cp:revision>
  <dc:subject/>
  <dc:title>PowerPoint Presentation</dc:title>
</cp:coreProperties>
</file>